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6FB6-EB32-48BB-AC48-E9B2E9976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87D2-72FF-4B0C-A341-813E2188D804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612F-D262-418D-8117-F6E5C5F85EAA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8380-5794-4889-AF68-2543C40EA9F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58F1-583E-4197-8D9B-55F9E02A204C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D937-8094-4239-AA1E-A9ED64051DE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9D59-646D-4CE6-9EBB-41F5970CC948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1E61-6D2C-4004-865A-AA6CBB92559D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DF45-0C92-4973-9AD1-A734A64773AB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F87B-64F3-4BC8-9F53-539246D0C00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244C-72C1-4E74-AAC3-32DF6DDC152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CC98-7617-4105-82D4-E0325F8040D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585E-6DB0-4F2D-A6F9-A30921854BC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7E61-D16B-4343-8A44-9A93AB415178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9E44-BE8F-4D88-B76D-050F1255FB21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0E1C-3323-41F4-9332-123518B6542F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3E5-9FC2-4B82-8A3A-B6080E95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E16-634B-4D0A-99CB-2AC2A4C5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67A-596D-4C1D-B9B3-FD81ED14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330A-2BF6-45BC-A641-4FB169AB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F3B0-EDFC-4E68-991A-3E1A1C70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EA1A-58FB-4ADA-B68E-78D0F19A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C947-3C51-4002-B9D2-20D924E7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EEF4-A97C-4804-94C0-70EB7977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AA7A-B94D-47A0-907C-72E69757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8A1B-4AA0-4FCE-A5CD-19E0AD2D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568D-FC36-480A-94FA-D3EA2D18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D62B-88C9-434C-B280-6CC30B5B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67CE-96F2-4113-A737-632D1C95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760D-0E64-4797-AE4B-149CB477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2F5C-CF13-4E80-8CE6-EAF746D6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18E1-6F14-49AE-964C-3490018E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5347-1981-477C-84E6-E2CD2228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291-CDFF-4AAF-87A2-2471FB07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191-EFD9-48ED-A3F8-E254FFFF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D217-8423-47D9-8404-D035AF13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6E8-8FEA-42EB-90EF-412E5013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2CA-B2AF-4CEF-B597-3BF27374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F6A-83F8-4F34-9D2A-559ABC58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106-75F4-440F-88B8-7BC370E1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83E3-9089-4E5A-98BD-A2FB671115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E7CB-569E-4CE3-A39D-FB92C80BEF6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Process Essa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ructure of Process Ess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0244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troduction: identifies the process and indicates why and under what circumstances it is perform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cludes thes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roduces whatever materials or preliminary steps may be need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Picture 5" descr="buckeyb"/>
          <p:cNvPicPr/>
          <p:nvPr/>
        </p:nvPicPr>
        <p:blipFill>
          <a:blip r:embed="rId1"/>
          <a:stretch/>
        </p:blipFill>
        <p:spPr>
          <a:xfrm>
            <a:off x="2209680" y="0"/>
            <a:ext cx="914400" cy="89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home"/>
          <p:cNvPicPr/>
          <p:nvPr/>
        </p:nvPicPr>
        <p:blipFill>
          <a:blip r:embed="rId2"/>
          <a:stretch/>
        </p:blipFill>
        <p:spPr>
          <a:xfrm>
            <a:off x="5562720" y="4800600"/>
            <a:ext cx="152856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ructure of Process Essay, cont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630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dy of ess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major stage of the process in each body paragrap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 stage may involve several step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5" descr="dipsea-steps"/>
          <p:cNvPicPr/>
          <p:nvPr/>
        </p:nvPicPr>
        <p:blipFill>
          <a:blip r:embed="rId1"/>
          <a:stretch/>
        </p:blipFill>
        <p:spPr>
          <a:xfrm>
            <a:off x="7162920" y="2438280"/>
            <a:ext cx="1746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ructure of Process Essay, cont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mal 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y not be necessary in very short, simple process ess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riefly reviews the procedure’s major stag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inforces the thesis by summarizing the results of the process, or explaining its significa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vising Checklist for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Process Essa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your assignment call for a set of instructions or a process explanation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your writing style clearly and consistently indicate whether you are writing a set of instructions or process explanation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es your essay have a clearly stated thesis that identifies the process and perhaps tells why it is (or was) performed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ve you included all necessary reminders and caution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ve you included all necessary step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e the steps presented in strict chronological order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 transitions clearly indicate where one step ends and the next begin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 Class Process Writing Exercis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9" descr="catolantern1"/>
          <p:cNvPicPr/>
          <p:nvPr/>
        </p:nvPicPr>
        <p:blipFill>
          <a:blip r:embed="rId1"/>
          <a:stretch/>
        </p:blipFill>
        <p:spPr>
          <a:xfrm>
            <a:off x="5105520" y="1371600"/>
            <a:ext cx="3595680" cy="44974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1"/>
          <p:cNvSpPr/>
          <p:nvPr/>
        </p:nvSpPr>
        <p:spPr>
          <a:xfrm>
            <a:off x="380880" y="1828800"/>
            <a:ext cx="38862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ook at the photograph to the right. How is this jack-o’-lantern different from the pumpkin from which it was carved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ist the steps involved in the process of carving a pumpkin into a jack-o’-lantern. Where dies the process begin?  Where does it end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hat cautions and reminders might be helpful to someone who has never made a jack-o’-lantern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13" descr="pumpkins"/>
          <p:cNvPicPr/>
          <p:nvPr/>
        </p:nvPicPr>
        <p:blipFill>
          <a:blip r:embed="rId2"/>
          <a:stretch/>
        </p:blipFill>
        <p:spPr>
          <a:xfrm>
            <a:off x="1447920" y="5334120"/>
            <a:ext cx="15573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urnal Ent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762156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 a set of instructions for someone who has never made a jack-o’-lantern.  Using commands and present tense, explain each step in the order in which it occurs, including all necessary cautions and reminde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Picture 4" descr="pumpkins"/>
          <p:cNvPicPr/>
          <p:nvPr/>
        </p:nvPicPr>
        <p:blipFill>
          <a:blip r:embed="rId1"/>
          <a:stretch/>
        </p:blipFill>
        <p:spPr>
          <a:xfrm>
            <a:off x="457200" y="4343400"/>
            <a:ext cx="2819520" cy="2030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catolantern1"/>
          <p:cNvPicPr/>
          <p:nvPr/>
        </p:nvPicPr>
        <p:blipFill>
          <a:blip r:embed="rId2"/>
          <a:stretch/>
        </p:blipFill>
        <p:spPr>
          <a:xfrm>
            <a:off x="6600960" y="3886200"/>
            <a:ext cx="2071440" cy="2590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46027-demonstrating-jack-o-lantern-making-shanghai-china"/>
          <p:cNvPicPr/>
          <p:nvPr/>
        </p:nvPicPr>
        <p:blipFill>
          <a:blip r:embed="rId3"/>
          <a:stretch/>
        </p:blipFill>
        <p:spPr>
          <a:xfrm>
            <a:off x="3962520" y="3962520"/>
            <a:ext cx="1931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 proces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process essay explains how to do something or how something occu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obvious example of process writing is a recip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7" descr="MCj02334390000[1]"/>
          <p:cNvPicPr/>
          <p:nvPr/>
        </p:nvPicPr>
        <p:blipFill>
          <a:blip r:embed="rId1"/>
          <a:stretch/>
        </p:blipFill>
        <p:spPr>
          <a:xfrm>
            <a:off x="5557680" y="2473200"/>
            <a:ext cx="221004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haracteristics of Process Writ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1547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trict chronological or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f the steps described are repeated, the same outcome should always be achieved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xed order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larity extremely importa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ransitions essenti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5" descr="image002"/>
          <p:cNvPicPr/>
          <p:nvPr/>
        </p:nvPicPr>
        <p:blipFill>
          <a:blip r:embed="rId1"/>
          <a:stretch/>
        </p:blipFill>
        <p:spPr>
          <a:xfrm>
            <a:off x="5715000" y="4267080"/>
            <a:ext cx="1774800" cy="2210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hour%20glass"/>
          <p:cNvPicPr/>
          <p:nvPr/>
        </p:nvPicPr>
        <p:blipFill>
          <a:blip r:embed="rId2"/>
          <a:stretch/>
        </p:blipFill>
        <p:spPr>
          <a:xfrm>
            <a:off x="1600200" y="4267080"/>
            <a:ext cx="15796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wo Types of Process Writ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518292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struc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ables readers to perform a pro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recipe, a handout, an operating manual are examples of instruction writ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imperative moo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bject of sentences is “you” understood; speak directly to read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6" descr="0452279232"/>
          <p:cNvPicPr/>
          <p:nvPr/>
        </p:nvPicPr>
        <p:blipFill>
          <a:blip r:embed="rId1"/>
          <a:stretch/>
        </p:blipFill>
        <p:spPr>
          <a:xfrm>
            <a:off x="6024600" y="1598760"/>
            <a:ext cx="214452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 Process Explan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urpose is to help reader understand how a process is carried out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e either 1</a:t>
            </a:r>
            <a:r>
              <a:rPr b="0" lang="en-US" sz="2000" spc="-1" strike="noStrike" baseline="30000">
                <a:solidFill>
                  <a:srgbClr val="eaeaea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person or 3</a:t>
            </a:r>
            <a:r>
              <a:rPr b="0" lang="en-US" sz="20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person; not second person or imperative mood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y be in present or past tense, depending on whether the writer is explaining a process that takes place regularly or one that occurred in the past, and on whether the writer or someone else carried out the proces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5" descr="process"/>
          <p:cNvPicPr/>
          <p:nvPr/>
        </p:nvPicPr>
        <p:blipFill>
          <a:blip r:embed="rId1"/>
          <a:stretch/>
        </p:blipFill>
        <p:spPr>
          <a:xfrm>
            <a:off x="3048120" y="41148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455760" y="303120"/>
          <a:ext cx="8226360" cy="5586480"/>
        </p:xfrm>
        <a:graphic>
          <a:graphicData uri="http://schemas.openxmlformats.org/drawingml/2006/table">
            <a:tbl>
              <a:tblPr/>
              <a:tblGrid>
                <a:gridCol w="1523880"/>
                <a:gridCol w="3274920"/>
                <a:gridCol w="342756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irst Per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hird Perso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2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esent Ten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I place the chemicals in the tray, I turn out the lights in the darkroom.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habitual process performed by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photographers place the chemicals in the tray, they turn out the lights in the darkroom.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abitual process performed by someone other than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5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st Tens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I placed the chemicals in the tray, I turned out the lights in the darkroom.”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cess performed in the past by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fter the photographer placed the chemicals in the tray, she turned out the lights in the darkroom.”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(process performed in the past by someone other than the writer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ing Process Wri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7697520" cy="27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llege writing for science, literature, history, or any other subjec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process writing to persuade or to inform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process essay should have a clear thesis statement that identifies the process and tells why it is perform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5" descr="underwood"/>
          <p:cNvPicPr/>
          <p:nvPr/>
        </p:nvPicPr>
        <p:blipFill>
          <a:blip r:embed="rId1"/>
          <a:stretch/>
        </p:blipFill>
        <p:spPr>
          <a:xfrm>
            <a:off x="5715000" y="4191120"/>
            <a:ext cx="2438280" cy="2023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hv_persuasion"/>
          <p:cNvPicPr/>
          <p:nvPr/>
        </p:nvPicPr>
        <p:blipFill>
          <a:blip r:embed="rId2"/>
          <a:stretch/>
        </p:blipFill>
        <p:spPr>
          <a:xfrm>
            <a:off x="1066680" y="4572000"/>
            <a:ext cx="2152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ning a process ess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72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eep reader’s needs in min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plain reasons for performing step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scribe unfamiliar materials or equip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fine term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arn readers of possible problems they may encoun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void ambiguity or surpris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void unnecessary shifts in tense, person, voice and mood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5" descr="reader"/>
          <p:cNvPicPr/>
          <p:nvPr/>
        </p:nvPicPr>
        <p:blipFill>
          <a:blip r:embed="rId1"/>
          <a:stretch/>
        </p:blipFill>
        <p:spPr>
          <a:xfrm>
            <a:off x="5486400" y="15238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ing trans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eck list of transitions on page 43 of our textboo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ecifically useful are such transitions as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first, second, meanwhile, after this, next, then, at the same time, when you have finished, and fina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transitions to establish sequential and chronological relationships between steps in proce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21:34:55Z</dcterms:created>
  <dc:creator>Steven Federle</dc:creator>
  <dc:description/>
  <dc:language>en-US</dc:language>
  <cp:lastModifiedBy>shmurray</cp:lastModifiedBy>
  <dcterms:modified xsi:type="dcterms:W3CDTF">2011-06-15T16:18:52Z</dcterms:modified>
  <cp:revision>7</cp:revision>
  <dc:subject/>
  <dc:title>The Process Essay</dc:title>
</cp:coreProperties>
</file>